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B90-A365-4258-9ABB-D2B057E2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D68-C6D6-438A-B1A8-401B86CF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7DD-695F-454A-96C8-031A260C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678-90A2-490F-9F9D-C1335BA4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709-A924-4001-B122-2C7459C1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540-577C-40F7-B100-095E9D69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12B-D435-4466-94C8-9AFA9D25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A42-EA62-4D63-A4C7-5972627C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47A-C2C4-451A-A04A-FC9324E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404-1E7E-456F-B340-5F1EDF2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8E2-C852-41E8-AD6B-1E80A2A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96B-B62B-4441-ADDB-5C05FE3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911A-D99F-4AEA-BEE0-519ACC65C98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Jan Amos Komensk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560" y="2437920"/>
            <a:ext cx="510516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6600"/>
                </a:solidFill>
                <a:latin typeface="Times New Roman"/>
              </a:rPr>
              <a:t>(1592-167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6600"/>
                </a:solidFill>
                <a:latin typeface="Times New Roman"/>
              </a:rPr>
              <a:t>pedagog czeski, reformator szkolnictwa i twórca nowożytnej pedagogiki, działacz społeczny </a:t>
            </a:r>
            <a:br>
              <a:rPr sz="2400"/>
            </a:br>
            <a:r>
              <a:rPr b="0" lang="pl-PL" sz="2400" spc="-1" strike="noStrike">
                <a:solidFill>
                  <a:srgbClr val="cc6600"/>
                </a:solidFill>
                <a:latin typeface="Times New Roman"/>
              </a:rPr>
              <a:t>i religij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Czech pedagogue, school reform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creator of modern pedagogy, social  and religious activist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210px-Johan_amos_comenius_1592-1671"/>
          <p:cNvPicPr/>
          <p:nvPr/>
        </p:nvPicPr>
        <p:blipFill>
          <a:blip r:embed="rId1"/>
          <a:stretch/>
        </p:blipFill>
        <p:spPr>
          <a:xfrm>
            <a:off x="304920" y="1447920"/>
            <a:ext cx="335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924280"/>
            <a:ext cx="8591400" cy="323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2800" spc="-1" strike="noStrike">
                <a:solidFill>
                  <a:srgbClr val="cc3300"/>
                </a:solidFill>
                <a:latin typeface="Tahoma"/>
                <a:ea typeface="Tahoma"/>
              </a:rPr>
              <a:t>Wiele można nauczyć w zabawie co potem przydatne być może gdy warunki tego wymagać będą.</a:t>
            </a:r>
            <a:br>
              <a:rPr sz="2800"/>
            </a:br>
            <a:r>
              <a:rPr b="0" lang="pl-PL" sz="2800" spc="-1" strike="noStrike">
                <a:solidFill>
                  <a:srgbClr val="cc3300"/>
                </a:solidFill>
                <a:latin typeface="Tahoma"/>
                <a:ea typeface="Tahoma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ahoma"/>
                <a:ea typeface="Tahoma"/>
              </a:rPr>
              <a:t>Much can be learned in play that will afterwards be of use when the circumstances demand it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180px-Johann-Amos-Comenius-Apel"/>
          <p:cNvPicPr/>
          <p:nvPr/>
        </p:nvPicPr>
        <p:blipFill>
          <a:blip r:embed="rId1"/>
          <a:stretch/>
        </p:blipFill>
        <p:spPr>
          <a:xfrm>
            <a:off x="3203640" y="333360"/>
            <a:ext cx="31287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40800" cy="53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  <a:ea typeface="Arial"/>
              </a:rPr>
              <a:t>To hate a man because he was born in another country, because he speaks a different language, or because he takes a different view of this subject or that, is a great folly. 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  <a:ea typeface="Arial"/>
              </a:rPr>
              <a:t>Desist, I implore you, for we are all equally human..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  <a:ea typeface="Arial"/>
              </a:rPr>
              <a:t>Let us have but one end in view, the welfare of humanity.</a:t>
            </a:r>
            <a:br>
              <a:rPr sz="2800"/>
            </a:br>
            <a:br>
              <a:rPr sz="3600"/>
            </a:br>
            <a:r>
              <a:rPr b="1" lang="pl-PL" sz="3600" spc="-1" strike="noStrike">
                <a:solidFill>
                  <a:srgbClr val="cc3300"/>
                </a:solidFill>
                <a:latin typeface="Arial"/>
                <a:ea typeface="Arial"/>
              </a:rPr>
              <a:t>Jan Amos Komensky ( 1592 – 167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Times New Roman"/>
              </a:rPr>
              <a:t>Nauczyciel powinien brać pod uwagę wszelkie drogi,  zmierzające do otwarcia umysłów</a:t>
            </a:r>
            <a:br>
              <a:rPr sz="2800"/>
            </a:br>
            <a:r>
              <a:rPr b="0" lang="pl-PL" sz="2800" spc="-1" strike="noStrike">
                <a:solidFill>
                  <a:srgbClr val="cc3300"/>
                </a:solidFill>
                <a:latin typeface="Times New Roman"/>
              </a:rPr>
              <a:t> i używać ich odpowiednio do okolicznośc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The t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acher should take into account all possible paths that lead to opening minds and use them appropriately in all circumstan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360" y="907560"/>
            <a:ext cx="42498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cc6600"/>
                </a:solidFill>
                <a:latin typeface="Tahoma"/>
                <a:ea typeface="Tahoma"/>
              </a:rPr>
              <a:t>Całe życie jest szkołą.</a:t>
            </a: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All life is a schoo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Rembrandt_Komensky"/>
          <p:cNvPicPr/>
          <p:nvPr/>
        </p:nvPicPr>
        <p:blipFill>
          <a:blip r:embed="rId1"/>
          <a:stretch/>
        </p:blipFill>
        <p:spPr>
          <a:xfrm>
            <a:off x="395280" y="981000"/>
            <a:ext cx="323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6600"/>
                </a:solidFill>
                <a:latin typeface="Arial"/>
                <a:ea typeface="Tahoma"/>
              </a:rPr>
              <a:t>Nauka rozpoczynać się musi od zmysłowych spostrzeżeń, a nie od opis</a:t>
            </a:r>
            <a:r>
              <a:rPr b="0" lang="pl-PL" sz="3200" spc="-1" strike="noStrike">
                <a:solidFill>
                  <a:srgbClr val="cc6600"/>
                </a:solidFill>
                <a:latin typeface="Arial"/>
              </a:rPr>
              <a:t>ó</a:t>
            </a:r>
            <a:r>
              <a:rPr b="0" lang="pl-PL" sz="3200" spc="-1" strike="noStrike">
                <a:solidFill>
                  <a:srgbClr val="cc6600"/>
                </a:solidFill>
                <a:latin typeface="Arial"/>
                <a:ea typeface="Tahoma"/>
              </a:rPr>
              <a:t>w rzeczy słowami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ff0000"/>
                </a:solidFill>
                <a:latin typeface="Arial"/>
                <a:ea typeface="Tahoma"/>
              </a:rPr>
              <a:t>Learning should start from sensual perceptions and not from verbal description of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06292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6600"/>
                </a:solidFill>
                <a:latin typeface="Tahoma"/>
                <a:ea typeface="Tahoma"/>
              </a:rPr>
              <a:t>Jak ten, co chce skoczyć, cofa się do rozpędu, tak ambitny zniża się, aby wyżej sięgnął .</a:t>
            </a: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As one who wants to jump go</a:t>
            </a:r>
            <a:r>
              <a:rPr b="0" lang="en-GB" sz="4000" spc="-1" strike="noStrike">
                <a:solidFill>
                  <a:srgbClr val="ff0000"/>
                </a:solidFill>
                <a:latin typeface="Tahoma"/>
                <a:ea typeface="Tahoma"/>
              </a:rPr>
              <a:t>es</a:t>
            </a: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 back </a:t>
            </a:r>
            <a:r>
              <a:rPr b="0" lang="en-GB" sz="4000" spc="-1" strike="noStrike">
                <a:solidFill>
                  <a:srgbClr val="ff0000"/>
                </a:solidFill>
                <a:latin typeface="Tahoma"/>
                <a:ea typeface="Tahoma"/>
              </a:rPr>
              <a:t>to </a:t>
            </a: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gain impetus the ambitious one </a:t>
            </a:r>
            <a:r>
              <a:rPr b="0" lang="en-GB" sz="4000" spc="-1" strike="noStrike">
                <a:solidFill>
                  <a:srgbClr val="ff0000"/>
                </a:solidFill>
                <a:latin typeface="Tahoma"/>
                <a:ea typeface="Tahoma"/>
              </a:rPr>
              <a:t>lowers him</a:t>
            </a: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self to reach hig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Je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eli b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ę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dziemy szanowa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ć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 dzieci jak osoby, naucz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ą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 si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ę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 szanowa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ć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 nawzajem.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f0000"/>
                </a:solidFill>
                <a:latin typeface="Tahoma"/>
                <a:ea typeface="Tahoma"/>
              </a:rPr>
              <a:t>If we treat children as persons they will learn to respect each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Dziecko jest klejnotem dro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szym n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złoto, ale bardziej kruchym n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szk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ł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o. Jak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e 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ł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atwo mo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na go zran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ć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, a krzywd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ę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spowodowan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ą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napraw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ć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s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ę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ju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nigdy nie da</a:t>
            </a:r>
            <a:r>
              <a:rPr b="0" lang="pl-PL" sz="3000" spc="-1" strike="noStrike">
                <a:solidFill>
                  <a:srgbClr val="cc3300"/>
                </a:solidFill>
                <a:latin typeface="Tahoma"/>
                <a:ea typeface="Tahoma"/>
              </a:rPr>
              <a:t>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ff0000"/>
                </a:solidFill>
                <a:latin typeface="Tahoma"/>
                <a:ea typeface="Tahoma"/>
              </a:rPr>
              <a:t>A c</a:t>
            </a:r>
            <a:r>
              <a:rPr b="0" lang="pl-PL" sz="3000" spc="-1" strike="noStrike">
                <a:solidFill>
                  <a:srgbClr val="ff0000"/>
                </a:solidFill>
                <a:latin typeface="Tahoma"/>
                <a:ea typeface="Tahoma"/>
              </a:rPr>
              <a:t>hild is a jewel more precious than gold but more fragile than glass. It is easy to hurt and harm done </a:t>
            </a:r>
            <a:r>
              <a:rPr b="0" lang="en-GB" sz="3000" spc="-1" strike="noStrike">
                <a:solidFill>
                  <a:srgbClr val="ff0000"/>
                </a:solidFill>
                <a:latin typeface="Tahoma"/>
                <a:ea typeface="Tahoma"/>
              </a:rPr>
              <a:t>can</a:t>
            </a:r>
            <a:r>
              <a:rPr b="0" lang="pl-PL" sz="3000" spc="-1" strike="noStrike">
                <a:solidFill>
                  <a:srgbClr val="ff0000"/>
                </a:solidFill>
                <a:latin typeface="Tahoma"/>
                <a:ea typeface="Tahoma"/>
              </a:rPr>
              <a:t> never be </a:t>
            </a:r>
            <a:r>
              <a:rPr b="0" lang="en-GB" sz="3000" spc="-1" strike="noStrike">
                <a:solidFill>
                  <a:srgbClr val="ff0000"/>
                </a:solidFill>
                <a:latin typeface="Tahoma"/>
                <a:ea typeface="Tahoma"/>
              </a:rPr>
              <a:t>put right</a:t>
            </a:r>
            <a:r>
              <a:rPr b="0" lang="pl-PL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644640"/>
            <a:ext cx="843912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Szko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ł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a bez wychowania jest jak m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ł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yn bez wody</a:t>
            </a:r>
            <a:r>
              <a:rPr b="0" lang="pl-PL" sz="3600" spc="-1" strike="noStrike">
                <a:solidFill>
                  <a:srgbClr val="cc3300"/>
                </a:solidFill>
                <a:latin typeface="Tahoma"/>
                <a:ea typeface="Tahoma"/>
              </a:rPr>
              <a:t>.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f0000"/>
                </a:solidFill>
                <a:latin typeface="Tahoma"/>
                <a:ea typeface="Tahoma"/>
              </a:rPr>
              <a:t>School without upbringing is like watermill without a r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180px-Relief_Komensky"/>
          <p:cNvPicPr/>
          <p:nvPr/>
        </p:nvPicPr>
        <p:blipFill>
          <a:blip r:embed="rId1"/>
          <a:stretch/>
        </p:blipFill>
        <p:spPr>
          <a:xfrm>
            <a:off x="2050920" y="476280"/>
            <a:ext cx="4681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3300"/>
                </a:solidFill>
                <a:latin typeface="Verdana"/>
                <a:ea typeface="Tahoma"/>
              </a:rPr>
              <a:t>Właściwa edukacja młodych nie polega na wpychaniu im do głów masy słów, zdań i idei branych od różnych autorów, ale na tworzeniu ich zrozumienia dla świata zewnętrznego, tak by żywy strumień powstawał w ich umysłach, tak jak liście, kwiaty i owoce tworzą się z pąków na drzewie.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Verdana"/>
                <a:ea typeface="Tahoma"/>
              </a:rPr>
              <a:t>The proper education of the young does not consist in stuffing their heads with a mass of words, sentences, and ideas dragged together out of various authors, but in opening up their understanding to the outer world, so that a living stream may flow from their own minds, just as leaves, flowers, and fruit spring from the bud on a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0:42:55Z</dcterms:created>
  <dc:creator>RS</dc:creator>
  <dc:description/>
  <dc:language>en-US</dc:language>
  <cp:lastModifiedBy>MARTIN WHITTLE</cp:lastModifiedBy>
  <dcterms:modified xsi:type="dcterms:W3CDTF">2008-11-04T14:30:38Z</dcterms:modified>
  <cp:revision>17</cp:revision>
  <dc:subject/>
  <dc:title>Jan Amos Komensky </dc:title>
</cp:coreProperties>
</file>